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914-C496-47DE-BD7B-BD879544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5E9-10E2-49D4-B177-C8E7C80C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990-7933-44A8-B8D5-06FE411A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E58-3DBA-4D83-8FFB-9855862F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E18-15D8-4267-8769-696D9885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456-5DE3-417F-A859-3C19ABD1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160-22D7-4047-85FB-809632D6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9F8-31B1-4835-A868-91B5DAEB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436-DD49-4A11-94BF-A83909E2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A8E-98AE-47E7-BF73-870C0FA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129-A5BA-4ACE-80EA-372B0C4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8C3-1BA1-4788-BCBD-C8ECADF8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2CE-FAE5-49F2-B05D-EDFCC64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0BF-75B3-4755-8E0C-0433927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DE8E-44FA-4CAC-8570-72F570B2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kovachl/My%20Documents/VAST%202011/Lab%20buffer.docx" TargetMode="External"/><Relationship Id="rId2" Type="http://schemas.openxmlformats.org/officeDocument/2006/relationships/hyperlink" Target="file:///C:/Documents%20and%20Settings/kovachl/My%20Documents/VAST%202011/Lab%20diffusion%20osmosis.docx" TargetMode="External"/><Relationship Id="rId3" Type="http://schemas.openxmlformats.org/officeDocument/2006/relationships/hyperlink" Target="file:///C:/Documents%20and%20Settings/kovachl/My%20Documents/VAST%202011/LAB%20fFall%20color%20pigments%20paper%20chromatography%20home.docx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steward1/home/KovachL/POGIL/Matter,%20nuclear%20reactions.docx" TargetMode="External"/><Relationship Id="rId2" Type="http://schemas.openxmlformats.org/officeDocument/2006/relationships/hyperlink" Target="file:///../POGIL/Ionic%20Compounds,%20formation.docx" TargetMode="External"/><Relationship Id="rId3" Type="http://schemas.openxmlformats.org/officeDocument/2006/relationships/hyperlink" Target="file:///../Chemistry/Labs/Bowling%20for%20Density%202011.docx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68400"/>
            <a:ext cx="693432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for Biology and 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6520" y="30481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Greenlee,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lie Kovach,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ward School, Richmond,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ogo steward.gif"/>
          <p:cNvPicPr/>
          <p:nvPr/>
        </p:nvPicPr>
        <p:blipFill>
          <a:blip r:embed="rId1"/>
          <a:srcRect l="30612" t="0" r="30083" b="22229"/>
          <a:stretch/>
        </p:blipFill>
        <p:spPr>
          <a:xfrm>
            <a:off x="2997360" y="4724280"/>
            <a:ext cx="129528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670536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 for Com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http://people.uleth.ca/~em.pijlzieber/brainh.gif"/>
          <p:cNvPicPr/>
          <p:nvPr/>
        </p:nvPicPr>
        <p:blipFill>
          <a:blip r:embed="rId1"/>
          <a:stretch/>
        </p:blipFill>
        <p:spPr>
          <a:xfrm>
            <a:off x="2171880" y="1828800"/>
            <a:ext cx="2133360" cy="2216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304920" y="4267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feel free to contact us if you have any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Mary.Greenlee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Leslie.Kovach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Lear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28954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involves the thinking, reading, writing, or research that gives meaning to hands-on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ropose issues or problems; probe, collect, and analyze data; draw conclusions; and ask new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216.photobucket.com/albums/cc173/celticlass188/question_mark.jpg"/>
          <p:cNvPicPr/>
          <p:nvPr/>
        </p:nvPicPr>
        <p:blipFill>
          <a:blip r:embed="rId1"/>
          <a:stretch/>
        </p:blipFill>
        <p:spPr>
          <a:xfrm>
            <a:off x="4940280" y="838080"/>
            <a:ext cx="1981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Features of Inquir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15238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egin with a question that can be answered in a scientific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rely on evidence in attempting to 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form an explanation to answer the question based on evidenc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valuate thei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ommunicate and justify their proposed expla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 from the National Science Edu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762120"/>
            <a:ext cx="67053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240" y="16002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vestigate a question posed by the teacher using student designed or selected procedur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www.masternewmedia.org/images/students_experimenting_419554_88258128_350.jpg"/>
          <p:cNvPicPr/>
          <p:nvPr/>
        </p:nvPicPr>
        <p:blipFill>
          <a:blip r:embed="rId1"/>
          <a:stretch/>
        </p:blipFill>
        <p:spPr>
          <a:xfrm>
            <a:off x="1905120" y="3276720"/>
            <a:ext cx="3333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828440"/>
            <a:ext cx="6858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raditional activities to inquiry or guided inqui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“let go” of som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pent is not necessarily increased over tradition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till perform well on standardize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96760"/>
            <a:ext cx="6705720" cy="12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smosis and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437920"/>
            <a:ext cx="67057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clear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wling f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521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Levels of Inquiry http://edweb.sdsu.edu/wip/four_level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ogil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in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American Chemical Society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ndations of Chemistry, Applying POGIL Princi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Pacific Crest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2133720"/>
            <a:ext cx="7010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:  https://kovachchemistry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portal:  http://guest.portaportal.com/kov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8:23:16Z</dcterms:created>
  <dc:creator>kovachl</dc:creator>
  <dc:description/>
  <cp:keywords/>
  <dc:language>en-US</dc:language>
  <cp:lastModifiedBy>Kovach, Leslie</cp:lastModifiedBy>
  <dcterms:modified xsi:type="dcterms:W3CDTF">2011-11-17T15:49:25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